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8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6-08-19T19:20:17.260000000" idx="2">
    <p:pos x="5193" y="527"/>
    <p:text/>
  </p:cm>
</p:cmLst>
</file>

<file path=ppt/comments/comment21.xml><?xml version="1.0" encoding="utf-8"?>
<p:cmLst xmlns:p="http://schemas.openxmlformats.org/presentationml/2006/main">
  <p:cm authorId="0" dt="2016-08-19T19:20:22.557000000" idx="3">
    <p:pos x="5026" y="1356"/>
    <p:text/>
  </p:cm>
</p:cmLst>
</file>

<file path=ppt/comments/comment8.xml><?xml version="1.0" encoding="utf-8"?>
<p:cmLst xmlns:p="http://schemas.openxmlformats.org/presentationml/2006/main">
  <p:cm authorId="0" dt="2016-08-19T19:20:10.806000000" idx="1">
    <p:pos x="5193" y="52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49FE-0568-4239-BF5B-D033B83B874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E4FF-B961-4010-8CAD-1AF47C860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B66B-ED86-43B1-9403-BDE1AA65F48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方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124080" y="3251160"/>
            <a:ext cx="52642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022560" y="234936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列方程解决问题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398600" y="26370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梅花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梅花鹿的只数比长颈鹿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颈鹿有多少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1"/>
          <p:cNvSpPr/>
          <p:nvPr/>
        </p:nvSpPr>
        <p:spPr>
          <a:xfrm>
            <a:off x="1258920" y="2924280"/>
            <a:ext cx="6985080" cy="106884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梅花鹿的只数和梅花鹿与长颈鹿只数的关系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长颈鹿的只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量关系是长颈鹿的只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3+2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梅花鹿的只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311560" y="2682720"/>
            <a:ext cx="367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长颈鹿有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2=38</a:t>
            </a:r>
            <a:r>
              <a:rPr b="0" i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颈鹿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0"/>
          <p:cNvSpPr/>
          <p:nvPr/>
        </p:nvSpPr>
        <p:spPr>
          <a:xfrm>
            <a:off x="1908000" y="18129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4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-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i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9" name="矩形 15"/>
          <p:cNvSpPr/>
          <p:nvPr/>
        </p:nvSpPr>
        <p:spPr>
          <a:xfrm>
            <a:off x="1908000" y="2708280"/>
            <a:ext cx="49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-20=20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÷4-20=20÷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x-20=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x-20+20=5+2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x=2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45" name="矩形 19"/>
          <p:cNvSpPr/>
          <p:nvPr/>
        </p:nvSpPr>
        <p:spPr>
          <a:xfrm>
            <a:off x="1012680" y="285264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等式两边没有先同时加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是直接去掉了未知数前的系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导致计算错误。解形如</a:t>
            </a:r>
            <a:r>
              <a:rPr b="0" i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x±b=c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方程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必须把含有未知数的部分看成一个整体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求出这个整体是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继续求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50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5"/>
          <p:cNvSpPr/>
          <p:nvPr/>
        </p:nvSpPr>
        <p:spPr>
          <a:xfrm rot="18297600">
            <a:off x="5848200" y="5003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0"/>
          <p:cNvSpPr/>
          <p:nvPr/>
        </p:nvSpPr>
        <p:spPr>
          <a:xfrm rot="18297600">
            <a:off x="6246720" y="2779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5" name="矩形 14"/>
          <p:cNvSpPr/>
          <p:nvPr/>
        </p:nvSpPr>
        <p:spPr>
          <a:xfrm>
            <a:off x="1582560" y="1755720"/>
            <a:ext cx="49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-20=20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÷4-20=20÷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x-20=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x-20+20=5+2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x=2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6"/>
          <p:cNvSpPr/>
          <p:nvPr/>
        </p:nvSpPr>
        <p:spPr>
          <a:xfrm>
            <a:off x="1763640" y="4002120"/>
            <a:ext cx="49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-20=20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-20+20=20+2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4x=4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4x÷4=40÷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x=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rcRect l="0" t="17816" r="4898" b="0"/>
          <a:stretch/>
        </p:blipFill>
        <p:spPr>
          <a:xfrm>
            <a:off x="849240" y="2349360"/>
            <a:ext cx="7942320" cy="2349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2712600" y="16146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会根据下面的图列出方程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1774080" y="5022720"/>
            <a:ext cx="199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0.5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2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379200" y="5056200"/>
            <a:ext cx="1431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同侧圆角矩形 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1"/>
          <p:cNvSpPr/>
          <p:nvPr/>
        </p:nvSpPr>
        <p:spPr>
          <a:xfrm>
            <a:off x="3054240" y="898560"/>
            <a:ext cx="26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不清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16"/>
          <p:cNvPicPr/>
          <p:nvPr/>
        </p:nvPicPr>
        <p:blipFill>
          <a:blip r:embed="rId1"/>
          <a:stretch/>
        </p:blipFill>
        <p:spPr>
          <a:xfrm>
            <a:off x="468360" y="2462040"/>
            <a:ext cx="3217680" cy="2700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1506960" y="16286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去年身高多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817640" y="54450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863880" y="2845800"/>
            <a:ext cx="41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小明去年身高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792600" y="34952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53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432240" y="3998520"/>
            <a:ext cx="48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8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5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232240" y="4458960"/>
            <a:ext cx="17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532320" y="5280120"/>
            <a:ext cx="452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小明去年身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4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4260960" y="2206080"/>
            <a:ext cx="33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c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08m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9" descr="19"/>
          <p:cNvPicPr/>
          <p:nvPr/>
        </p:nvPicPr>
        <p:blipFill>
          <a:blip r:embed="rId1"/>
          <a:stretch/>
        </p:blipFill>
        <p:spPr>
          <a:xfrm>
            <a:off x="2771640" y="3429000"/>
            <a:ext cx="4105440" cy="20718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1012680" y="1665360"/>
            <a:ext cx="7623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网球，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装一筒，装完后还剩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一共装了多少筒？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同侧圆角矩形 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5"/>
          <p:cNvGrpSpPr/>
          <p:nvPr/>
        </p:nvGrpSpPr>
        <p:grpSpPr>
          <a:xfrm>
            <a:off x="1474920" y="1557360"/>
            <a:ext cx="6481800" cy="712800"/>
            <a:chOff x="1474920" y="1557360"/>
            <a:chExt cx="6481800" cy="712800"/>
          </a:xfrm>
        </p:grpSpPr>
        <p:sp>
          <p:nvSpPr>
            <p:cNvPr id="182" name="Rectangle 6"/>
            <p:cNvSpPr/>
            <p:nvPr/>
          </p:nvSpPr>
          <p:spPr>
            <a:xfrm>
              <a:off x="1474920" y="1557360"/>
              <a:ext cx="6481800" cy="712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1519920" y="1665720"/>
              <a:ext cx="643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筒网球的个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筒数＋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网球总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Text Box 8"/>
          <p:cNvSpPr/>
          <p:nvPr/>
        </p:nvSpPr>
        <p:spPr>
          <a:xfrm>
            <a:off x="2556000" y="2481480"/>
            <a:ext cx="3333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一共装了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2556000" y="3118320"/>
            <a:ext cx="3752280" cy="2218320"/>
            <a:chOff x="2556000" y="3118320"/>
            <a:chExt cx="3752280" cy="2218320"/>
          </a:xfrm>
        </p:grpSpPr>
        <p:sp>
          <p:nvSpPr>
            <p:cNvPr id="186" name="Text Box 10"/>
            <p:cNvSpPr/>
            <p:nvPr/>
          </p:nvSpPr>
          <p:spPr>
            <a:xfrm>
              <a:off x="2556000" y="3118320"/>
              <a:ext cx="3312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2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2663640" y="3573720"/>
              <a:ext cx="3096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x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28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3092040" y="3903840"/>
              <a:ext cx="3097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x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2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3211200" y="4415040"/>
              <a:ext cx="3097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x÷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25÷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3047760" y="4803840"/>
              <a:ext cx="3096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同侧圆角矩形 15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556000" y="5316840"/>
            <a:ext cx="3333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一共装了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31960" y="29908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会列方程解决一些简单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根据等式的性质解形如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x±b=c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方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831960" y="41911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验列方程解决问题的价值，增强学好数学的信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2"/>
          <p:cNvSpPr/>
          <p:nvPr/>
        </p:nvSpPr>
        <p:spPr>
          <a:xfrm>
            <a:off x="2916360" y="1079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本节字母的正斜体需要统一与课本一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1187280" y="1488240"/>
            <a:ext cx="414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蓝鲸的寿命大约是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合 1"/>
          <p:cNvGrpSpPr/>
          <p:nvPr/>
        </p:nvGrpSpPr>
        <p:grpSpPr>
          <a:xfrm>
            <a:off x="1403280" y="2205000"/>
            <a:ext cx="2952720" cy="3097080"/>
            <a:chOff x="1403280" y="2205000"/>
            <a:chExt cx="2952720" cy="3097080"/>
          </a:xfrm>
        </p:grpSpPr>
        <p:sp>
          <p:nvSpPr>
            <p:cNvPr id="196" name="AutoShape 27"/>
            <p:cNvSpPr/>
            <p:nvPr/>
          </p:nvSpPr>
          <p:spPr>
            <a:xfrm>
              <a:off x="1403280" y="2205000"/>
              <a:ext cx="2952720" cy="502920"/>
            </a:xfrm>
            <a:prstGeom prst="wedgeRoundRectCallout">
              <a:avLst>
                <a:gd name="adj1" fmla="val 4087"/>
                <a:gd name="adj2" fmla="val 122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比海象的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倍少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年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7" name="Picture 22" descr="蓝鲸"/>
            <p:cNvPicPr/>
            <p:nvPr/>
          </p:nvPicPr>
          <p:blipFill>
            <a:blip r:embed="rId1"/>
            <a:stretch/>
          </p:blipFill>
          <p:spPr>
            <a:xfrm>
              <a:off x="1403280" y="3141360"/>
              <a:ext cx="2894040" cy="216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合 2"/>
          <p:cNvGrpSpPr/>
          <p:nvPr/>
        </p:nvGrpSpPr>
        <p:grpSpPr>
          <a:xfrm>
            <a:off x="5003640" y="2205000"/>
            <a:ext cx="3564000" cy="3113280"/>
            <a:chOff x="5003640" y="2205000"/>
            <a:chExt cx="3564000" cy="3113280"/>
          </a:xfrm>
        </p:grpSpPr>
        <p:sp>
          <p:nvSpPr>
            <p:cNvPr id="199" name="AutoShape 27"/>
            <p:cNvSpPr/>
            <p:nvPr/>
          </p:nvSpPr>
          <p:spPr>
            <a:xfrm>
              <a:off x="5148000" y="2205000"/>
              <a:ext cx="3419640" cy="503280"/>
            </a:xfrm>
            <a:prstGeom prst="wedgeRoundRectCallout">
              <a:avLst>
                <a:gd name="adj1" fmla="val 2833"/>
                <a:gd name="adj2" fmla="val 11340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海象的寿命大约是多少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0" name="Picture 23" descr="海象"/>
            <p:cNvPicPr/>
            <p:nvPr/>
          </p:nvPicPr>
          <p:blipFill>
            <a:blip r:embed="rId2"/>
            <a:stretch/>
          </p:blipFill>
          <p:spPr>
            <a:xfrm>
              <a:off x="5003640" y="3141720"/>
              <a:ext cx="3024360" cy="21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同侧圆角矩形 8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868400" y="27097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海象寿命大约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。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013120" y="4643280"/>
            <a:ext cx="35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941480" y="516564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海象的寿命大约是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。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1519200" y="1939320"/>
            <a:ext cx="6696000" cy="1715760"/>
            <a:chOff x="1519200" y="1939320"/>
            <a:chExt cx="6696000" cy="1715760"/>
          </a:xfrm>
        </p:grpSpPr>
        <p:sp>
          <p:nvSpPr>
            <p:cNvPr id="207" name="Rectangle 7"/>
            <p:cNvSpPr/>
            <p:nvPr/>
          </p:nvSpPr>
          <p:spPr>
            <a:xfrm>
              <a:off x="1612080" y="1943280"/>
              <a:ext cx="5049000" cy="522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1794240" y="3256200"/>
              <a:ext cx="422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1519200" y="1939320"/>
              <a:ext cx="66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海象寿命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3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蓝鲸寿命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18"/>
          <p:cNvGrpSpPr/>
          <p:nvPr/>
        </p:nvGrpSpPr>
        <p:grpSpPr>
          <a:xfrm>
            <a:off x="2354400" y="3202560"/>
            <a:ext cx="3979440" cy="1927800"/>
            <a:chOff x="2354400" y="3202560"/>
            <a:chExt cx="3979440" cy="1927800"/>
          </a:xfrm>
        </p:grpSpPr>
        <p:sp>
          <p:nvSpPr>
            <p:cNvPr id="211" name="Text Box 10"/>
            <p:cNvSpPr/>
            <p:nvPr/>
          </p:nvSpPr>
          <p:spPr>
            <a:xfrm>
              <a:off x="2354400" y="3202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14"/>
            <p:cNvSpPr/>
            <p:nvPr/>
          </p:nvSpPr>
          <p:spPr>
            <a:xfrm>
              <a:off x="2454120" y="356400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 Box 15"/>
            <p:cNvSpPr/>
            <p:nvPr/>
          </p:nvSpPr>
          <p:spPr>
            <a:xfrm>
              <a:off x="2795400" y="398952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 Box 16"/>
            <p:cNvSpPr/>
            <p:nvPr/>
          </p:nvSpPr>
          <p:spPr>
            <a:xfrm>
              <a:off x="3236760" y="437040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÷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0÷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2943000" y="4670640"/>
              <a:ext cx="30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同侧圆角矩形 18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22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AutoShape 27"/>
          <p:cNvSpPr/>
          <p:nvPr/>
        </p:nvSpPr>
        <p:spPr>
          <a:xfrm>
            <a:off x="5724360" y="968400"/>
            <a:ext cx="2954520" cy="1955880"/>
          </a:xfrm>
          <a:prstGeom prst="wedgeRoundRectCallout">
            <a:avLst>
              <a:gd name="adj1" fmla="val -56606"/>
              <a:gd name="adj2" fmla="val -7893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形如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±b=c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方程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把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看作一个整体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求出</a:t>
            </a:r>
            <a:r>
              <a:rPr b="0" i="1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a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于多少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求</a:t>
            </a:r>
            <a:r>
              <a:rPr b="0" i="1" lang="en-US" sz="24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等于多少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2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矩形 21"/>
          <p:cNvSpPr/>
          <p:nvPr/>
        </p:nvSpPr>
        <p:spPr>
          <a:xfrm>
            <a:off x="568440" y="3211560"/>
            <a:ext cx="8210520" cy="855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列方程解决实际问题时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根据清楚题意正确理解题中的数量关系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般按照条件叙述的顺序进行思考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写出关系式。在解题时要注意书写格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首先将要求的量设为</a:t>
            </a:r>
            <a:r>
              <a:rPr b="0" i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然后根据等量关系列出方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最后解方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5"/>
          <p:cNvSpPr/>
          <p:nvPr/>
        </p:nvSpPr>
        <p:spPr>
          <a:xfrm>
            <a:off x="522360" y="4869000"/>
            <a:ext cx="8280360" cy="947160"/>
          </a:xfrm>
          <a:prstGeom prst="rect">
            <a:avLst/>
          </a:prstGeom>
          <a:solidFill>
            <a:srgbClr val="31859c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列方程解决问题的步骤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弄清题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找出未知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表示。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析并找出数量间的相等关系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列方程。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方程。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检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写出答语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71640" y="609300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187280" y="1517760"/>
            <a:ext cx="6937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王叔叔是某晚报的记者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他学会用电脑打字后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分钟可打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2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字。你知道王叔叔每分钟手写多少个字吗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61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同侧圆角矩形 12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同侧圆角矩形 13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030400" y="2852640"/>
            <a:ext cx="4902120" cy="26146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4"/>
          <p:cNvGrpSpPr/>
          <p:nvPr/>
        </p:nvGrpSpPr>
        <p:grpSpPr>
          <a:xfrm>
            <a:off x="247680" y="4869000"/>
            <a:ext cx="3701520" cy="1800000"/>
            <a:chOff x="247680" y="4869000"/>
            <a:chExt cx="3701520" cy="1800000"/>
          </a:xfrm>
        </p:grpSpPr>
        <p:pic>
          <p:nvPicPr>
            <p:cNvPr id="66" name="Picture 45" descr="女孩1"/>
            <p:cNvPicPr/>
            <p:nvPr/>
          </p:nvPicPr>
          <p:blipFill>
            <a:blip r:embed="rId2"/>
            <a:stretch/>
          </p:blipFill>
          <p:spPr>
            <a:xfrm>
              <a:off x="247680" y="4869000"/>
              <a:ext cx="11505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AutoShape 27"/>
            <p:cNvSpPr/>
            <p:nvPr/>
          </p:nvSpPr>
          <p:spPr>
            <a:xfrm>
              <a:off x="1301400" y="4998960"/>
              <a:ext cx="2647800" cy="645840"/>
            </a:xfrm>
            <a:prstGeom prst="wedgeRoundRectCallout">
              <a:avLst>
                <a:gd name="adj1" fmla="val -55861"/>
                <a:gd name="adj2" fmla="val -18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手写的</a:t>
              </a:r>
              <a:r>
                <a:rPr b="0" lang="en-US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倍是</a:t>
              </a:r>
              <a:r>
                <a:rPr b="0" lang="en-US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120</a:t>
              </a:r>
              <a:r>
                <a:rPr b="0" lang="zh-CN" sz="24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116000" y="1662120"/>
            <a:ext cx="56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设王叔叔每分钟手写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50840" y="2421000"/>
            <a:ext cx="7481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       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=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20</a:t>
            </a:r>
            <a:br>
              <a:rPr sz="2800"/>
            </a:b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       3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÷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=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120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÷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……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方程两边同时除以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br>
              <a:rPr sz="2800"/>
            </a:b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      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=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楷体_GB2312"/>
              </a:rPr>
              <a:t>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660760" y="5268960"/>
            <a:ext cx="5113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王叔叔每分钟手写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73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同侧圆角矩形 14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同侧圆角矩形 15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77" name="矩形 1"/>
          <p:cNvSpPr/>
          <p:nvPr/>
        </p:nvSpPr>
        <p:spPr>
          <a:xfrm>
            <a:off x="1908000" y="3914640"/>
            <a:ext cx="61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检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0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符合题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答正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566720" y="1628640"/>
            <a:ext cx="64612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五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班同学向山区小朋友捐赠图书。亮亮捐了多少本书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954000" y="517680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81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同侧圆角矩形 9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同侧圆角矩形 10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432080" y="5516640"/>
            <a:ext cx="6403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亮亮捐书的本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2-4=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聪聪捐书的本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J539.eps" descr="id:2147512681;FounderCES"/>
          <p:cNvPicPr/>
          <p:nvPr/>
        </p:nvPicPr>
        <p:blipFill>
          <a:blip r:embed="rId1"/>
          <a:stretch/>
        </p:blipFill>
        <p:spPr>
          <a:xfrm>
            <a:off x="1801800" y="2924280"/>
            <a:ext cx="62690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116000" y="1601640"/>
            <a:ext cx="568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设亮亮捐了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089080" y="2178000"/>
            <a:ext cx="374184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解：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-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=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-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+4=34+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÷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=38</a:t>
            </a:r>
            <a:r>
              <a:rPr b="0" i="1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÷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i="1" lang="en-US" sz="2800" spc="-1" strike="noStrike">
                <a:solidFill>
                  <a:srgbClr val="1c1c1c"/>
                </a:solidFill>
                <a:latin typeface="Times New Roman"/>
                <a:ea typeface="华文新魏"/>
              </a:rPr>
              <a:t>x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=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亮亮捐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9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5"/>
          <p:cNvGrpSpPr/>
          <p:nvPr/>
        </p:nvGrpSpPr>
        <p:grpSpPr>
          <a:xfrm>
            <a:off x="395280" y="836640"/>
            <a:ext cx="2071800" cy="661680"/>
            <a:chOff x="395280" y="836640"/>
            <a:chExt cx="2071800" cy="661680"/>
          </a:xfrm>
        </p:grpSpPr>
        <p:sp>
          <p:nvSpPr>
            <p:cNvPr id="89" name="直线连接符 21"/>
            <p:cNvSpPr/>
            <p:nvPr/>
          </p:nvSpPr>
          <p:spPr>
            <a:xfrm flipV="1">
              <a:off x="395280" y="149292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同侧圆角矩形 14"/>
            <p:cNvSpPr/>
            <p:nvPr/>
          </p:nvSpPr>
          <p:spPr>
            <a:xfrm>
              <a:off x="395280" y="83664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同侧圆角矩形 15"/>
          <p:cNvSpPr/>
          <p:nvPr/>
        </p:nvSpPr>
        <p:spPr>
          <a:xfrm>
            <a:off x="431640" y="8668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1379520" y="4941720"/>
            <a:ext cx="720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检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2</a:t>
            </a:r>
            <a:r>
              <a:rPr b="0" i="1" lang="en-US" sz="2800" spc="-1" strike="noStrike">
                <a:solidFill>
                  <a:srgbClr val="7030a0"/>
                </a:solidFill>
                <a:latin typeface="Times New Roman"/>
                <a:ea typeface="华文新魏"/>
              </a:rPr>
              <a:t>x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-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9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-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4</a:t>
            </a:r>
            <a:r>
              <a:rPr b="0" i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4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符合题意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解答正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9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332000" y="264960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2=1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x=2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相同的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9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1"/>
          <p:cNvSpPr/>
          <p:nvPr/>
        </p:nvSpPr>
        <p:spPr>
          <a:xfrm>
            <a:off x="1116000" y="2649600"/>
            <a:ext cx="6985080" cy="13737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个方程的解相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相同。可以先求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2=1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把它代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x=24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得到一个含有未知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新方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后求出这个新方程的解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就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455920" y="2492280"/>
            <a:ext cx="633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2=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x+2-2=10-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代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x=2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8m=24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8m÷8=24÷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=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2:53:00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20:35Z</dcterms:modified>
  <cp:revision>327</cp:revision>
  <dc:subject>www.xkb1.com</dc:subject>
  <dc:title>www.xkb1.com</dc:title>
</cp:coreProperties>
</file>